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04138" cy="1083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717-71D3-4DEA-A562-A3EE1576A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69325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5560" y="6264000"/>
            <a:ext cx="69325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CEB-5D6B-4B21-A070-3A9667A1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3804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5560" y="626400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38040" y="626400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09B1-BBAA-4153-B601-110F997B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9520" y="252864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73480" y="252864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5560" y="626400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9520" y="626400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73480" y="6264000"/>
            <a:ext cx="223200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513-0142-4153-B210-767C78B3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5560" y="2528640"/>
            <a:ext cx="6932520" cy="71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3C8-1D91-43D9-9758-130169B3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69325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1E1-AAC4-4C6E-8847-781C77C1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33829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38040" y="2528640"/>
            <a:ext cx="33829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633-4B89-4B09-9785-9311534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7D3-8E62-484B-BE4D-67A66BA0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5560" y="433440"/>
            <a:ext cx="6932520" cy="83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308-42AA-48B6-9046-58EF738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38040" y="2528640"/>
            <a:ext cx="33829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5560" y="626400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9E7C-6F15-457F-BD47-EEDC6B6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33829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3804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38040" y="626400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703-2078-4A23-8949-383E5329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556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38040" y="2528640"/>
            <a:ext cx="33829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5560" y="6264000"/>
            <a:ext cx="6932520" cy="34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FC5-F57B-4C94-AA32-AD20089A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5560" y="433440"/>
            <a:ext cx="6932520" cy="18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5560" y="2528640"/>
            <a:ext cx="6932520" cy="71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5560" y="10045800"/>
            <a:ext cx="1796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31960" y="10045800"/>
            <a:ext cx="2440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21320" y="10045800"/>
            <a:ext cx="17971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8CAA-5455-4E52-BC1C-4295C74887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afik 3" descr="Briefbogen_A4.jpg"/>
          <p:cNvPicPr/>
          <p:nvPr/>
        </p:nvPicPr>
        <p:blipFill>
          <a:blip r:embed="rId1"/>
          <a:stretch/>
        </p:blipFill>
        <p:spPr>
          <a:xfrm>
            <a:off x="1440" y="1440"/>
            <a:ext cx="7701120" cy="10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2:49:41Z</dcterms:created>
  <dc:creator>krueger</dc:creator>
  <dc:description/>
  <dc:language>en-US</dc:language>
  <cp:lastModifiedBy>krueger</cp:lastModifiedBy>
  <dcterms:modified xsi:type="dcterms:W3CDTF">2017-11-22T11:00:09Z</dcterms:modified>
  <cp:revision>2</cp:revision>
  <dc:subject/>
  <dc:title>Folie 1</dc:title>
</cp:coreProperties>
</file>